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968A-54CE-4787-9B1F-B6B29EE43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7704-C540-4AA0-8658-C4007FAF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7FC1-15D9-4398-AD54-1A48B7188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3EA3-7B0C-4D9A-A2AD-9B08427D1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DEA1-497F-4453-A588-8F99ECE4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C710-B20C-42D0-B25C-B29042E3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AE31-A154-4980-B71F-C4814011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D05C-DF5B-4A72-AEDC-E551315D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DB9E-20D1-481F-99A6-C8AAC1F4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6920-CFE1-4CA6-AFC0-FD35E5B7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36A2-838E-451C-A349-FC7471AF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CB96-4D7E-4FAE-9A20-6C7E413C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AC57-4773-46BE-986E-473C57FF4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Mathematical Modeling</a:t>
            </a:r>
            <a:br>
              <a:rPr sz="5400"/>
            </a:b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Linear Mod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858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6858000" cy="2209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90720" y="3352680"/>
            <a:ext cx="68580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6858000" cy="2209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066680" y="2743200"/>
            <a:ext cx="6858000" cy="1600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066680" y="4419720"/>
            <a:ext cx="6782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858000" cy="2210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066680" y="4724280"/>
            <a:ext cx="6858000" cy="870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066680" y="3429000"/>
            <a:ext cx="6858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6858000" cy="2209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143000" y="4038480"/>
            <a:ext cx="6858000" cy="870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143000" y="2743200"/>
            <a:ext cx="6858000" cy="1371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143000" y="4952880"/>
            <a:ext cx="67816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43000" y="3124080"/>
            <a:ext cx="6858000" cy="2286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143000" y="914400"/>
            <a:ext cx="6858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6858000" cy="2286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143000" y="380880"/>
            <a:ext cx="6858000" cy="190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143000" y="4648320"/>
            <a:ext cx="6858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4400" y="3828960"/>
            <a:ext cx="7315200" cy="1505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914400" y="1676520"/>
            <a:ext cx="7315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010640" cy="22100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066680" y="2590920"/>
            <a:ext cx="7010640" cy="1352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066680" y="4114800"/>
            <a:ext cx="7010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858000" cy="2209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219320" y="3352680"/>
            <a:ext cx="6858000" cy="1175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219320" y="4495680"/>
            <a:ext cx="6858000" cy="863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705720" y="5029200"/>
            <a:ext cx="13716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3276720"/>
            <a:ext cx="3049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7010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6858000" cy="2209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295280" y="2743200"/>
            <a:ext cx="6858000" cy="1022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295280" y="3733920"/>
            <a:ext cx="6858000" cy="863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781680" y="4267080"/>
            <a:ext cx="13716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48320" y="2666880"/>
            <a:ext cx="30456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219320" y="4724280"/>
            <a:ext cx="69339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010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93432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143000" y="2209680"/>
            <a:ext cx="69343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93432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143000" y="2286000"/>
            <a:ext cx="6934320" cy="2095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371600" y="4572000"/>
            <a:ext cx="62485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858000" cy="1701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3581280"/>
            <a:ext cx="6858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696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77724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5T19:55:04Z</dcterms:modified>
  <cp:revision>43</cp:revision>
  <dc:subject/>
  <dc:title>PowerPoint Presentation</dc:title>
</cp:coreProperties>
</file>